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F0E-F98B-47D1-9149-161946EA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4DA-7F4D-438E-A335-7030D5C9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FE7-EAE6-4504-9498-7905DC8B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381-1C8E-483E-AF7F-A08F8484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E6FA-8A71-45C5-ADBF-7C1F4E9B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77DA-224A-4D7A-AB7D-13A96D32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52C1-E987-479F-83FC-C0D41611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599E-4E46-4DC9-8EEB-42666B71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A0EB-08DA-48A0-908B-0D2A0B14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F559-8CDF-4CD6-8BB4-C9DF1502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FA55-BFD9-4050-91DB-65940FE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418-73BE-45F6-8CD4-83B8C9F7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98CB-8A59-4F59-BD9C-8D6A1A51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5F15-5E58-4EE3-BE8D-7099D722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CEF7-336A-4082-B6EA-74D3B91A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3E4E-1D22-4368-97E1-74ED56F9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91C0-71C5-4858-A722-E8AD8FBE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AE3-8381-4C0B-9536-D8B8B8E6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7AA-A0E8-4718-8254-1225EE3C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0E9-53C0-4A9E-9C86-4623380C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BA8-2A73-409A-A84B-2524B35A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A0B-DD05-46BD-9B46-E2AA88CD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D99-96D7-44BA-BAAB-B4B05958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635-4FB9-4CD7-9EE8-615F5D45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CC1F-EC96-41E5-B642-F78B77A8BCB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D4EE-6690-4EAB-9B3D-18455CA87D1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0000" y="2637000"/>
            <a:ext cx="7561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8f8f8"/>
                </a:solidFill>
                <a:uFillTx/>
                <a:latin typeface="Times New Roman"/>
              </a:rPr>
              <a:t>Poligoane</a:t>
            </a:r>
            <a:r>
              <a:rPr b="1" lang="ro-RO" sz="5400" spc="-1" strike="noStrike">
                <a:solidFill>
                  <a:srgbClr val="f8f8f8"/>
                </a:solidFill>
                <a:latin typeface="Times New Roman"/>
              </a:rPr>
              <a:t>: </a:t>
            </a:r>
            <a:r>
              <a:rPr b="0" lang="ro-RO" sz="5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triunghiulare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ro-RO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ro-RO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ro-RO" sz="5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ro-RO" sz="5400" spc="-1" strike="noStrike" u="sng">
                <a:solidFill>
                  <a:srgbClr val="00ffff"/>
                </a:solidFill>
                <a:uFillTx/>
                <a:latin typeface="Times New Roman"/>
                <a:hlinkClick r:id="rId2" action="ppaction://hlinksldjump"/>
              </a:rPr>
              <a:t>patrulatere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05264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8f8f8"/>
                </a:solidFill>
                <a:uFillTx/>
                <a:latin typeface="Times New Roman"/>
              </a:rPr>
              <a:t>Geometrie</a:t>
            </a:r>
            <a:r>
              <a:rPr b="1" lang="ro-RO" sz="4000" spc="-1" strike="noStrike" u="sng">
                <a:solidFill>
                  <a:srgbClr val="f8f8f8"/>
                </a:solidFill>
                <a:uFillTx/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8f8f8"/>
                </a:solidFill>
                <a:uFillTx/>
                <a:latin typeface="Times New Roman"/>
              </a:rPr>
              <a:t>clasa a-VII-a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93440" y="6707160"/>
            <a:ext cx="358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3a5c4"/>
                </a:solidFill>
                <a:latin typeface="Tahoma"/>
              </a:rPr>
              <a:t>TRAPEZU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5122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bfe9"/>
                </a:solidFill>
                <a:latin typeface="Tahoma"/>
              </a:rPr>
              <a:t>Trapezul este patrulaterul cu doua laturi paralele si celelalte doua neparalele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lasificar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Trapez oarecare: 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are laturile neparalele necongruent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Trapez isoscel: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are laturile neparalele congruent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Trapez dreptunghic: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are un unghi drept;</a:t>
            </a: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48006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63868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57913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57913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48006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45720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601992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9404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05720" y="54864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32004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53341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42210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CD - oarec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92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NPQ- isosc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72360" y="414972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FGH-</a:t>
            </a:r>
            <a:r>
              <a:rPr b="0" lang="ro-RO" sz="3200" spc="-1" strike="noStrike">
                <a:solidFill>
                  <a:srgbClr val="00ffff"/>
                </a:solidFill>
                <a:latin typeface="Times New Roman"/>
              </a:rPr>
              <a:t>dreptunghi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95280" y="4724280"/>
            <a:ext cx="2689200" cy="1812960"/>
            <a:chOff x="395280" y="4724280"/>
            <a:chExt cx="2689200" cy="1812960"/>
          </a:xfrm>
        </p:grpSpPr>
        <p:grpSp>
          <p:nvGrpSpPr>
            <p:cNvPr id="338" name=""/>
            <p:cNvGrpSpPr/>
            <p:nvPr/>
          </p:nvGrpSpPr>
          <p:grpSpPr>
            <a:xfrm>
              <a:off x="395280" y="4724280"/>
              <a:ext cx="2689200" cy="1812960"/>
              <a:chOff x="395280" y="4724280"/>
              <a:chExt cx="2689200" cy="1812960"/>
            </a:xfrm>
          </p:grpSpPr>
          <p:sp>
            <p:nvSpPr>
              <p:cNvPr id="339" name=""/>
              <p:cNvSpPr/>
              <p:nvPr/>
            </p:nvSpPr>
            <p:spPr>
              <a:xfrm>
                <a:off x="395280" y="6168960"/>
                <a:ext cx="43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A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627280" y="61689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B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35040" y="4724280"/>
                <a:ext cx="47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D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892160" y="472428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C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6920" y="6097320"/>
                <a:ext cx="2016360" cy="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826920" y="5017320"/>
                <a:ext cx="144720" cy="107964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971640" y="5017680"/>
                <a:ext cx="1008000" cy="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1979280" y="5017320"/>
                <a:ext cx="863640" cy="107964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979640" y="5013360"/>
              <a:ext cx="0" cy="107964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348000" y="4941720"/>
            <a:ext cx="2549520" cy="1305000"/>
            <a:chOff x="3348000" y="4941720"/>
            <a:chExt cx="2549520" cy="1305000"/>
          </a:xfrm>
        </p:grpSpPr>
        <p:grpSp>
          <p:nvGrpSpPr>
            <p:cNvPr id="349" name=""/>
            <p:cNvGrpSpPr/>
            <p:nvPr/>
          </p:nvGrpSpPr>
          <p:grpSpPr>
            <a:xfrm>
              <a:off x="3348000" y="4941720"/>
              <a:ext cx="2549520" cy="1305000"/>
              <a:chOff x="3348000" y="4941720"/>
              <a:chExt cx="2549520" cy="1305000"/>
            </a:xfrm>
          </p:grpSpPr>
          <p:sp>
            <p:nvSpPr>
              <p:cNvPr id="350" name=""/>
              <p:cNvSpPr/>
              <p:nvPr/>
            </p:nvSpPr>
            <p:spPr>
              <a:xfrm>
                <a:off x="5076720" y="49417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N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348000" y="587844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Q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64000" y="587844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M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08360" y="4941720"/>
                <a:ext cx="43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P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0800000">
                <a:off x="3563640" y="5085720"/>
                <a:ext cx="1944360" cy="792360"/>
              </a:xfrm>
              <a:custGeom>
                <a:avLst/>
                <a:gdLst>
                  <a:gd name="textAreaLeft" fmla="*/ 427320 w 1944360"/>
                  <a:gd name="textAreaRight" fmla="*/ 1517040 w 1944360"/>
                  <a:gd name="textAreaTop" fmla="*/ 174240 h 792360"/>
                  <a:gd name="textAreaBottom" fmla="*/ 61812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003640" y="5084640"/>
              <a:ext cx="0" cy="79236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477120" y="5013360"/>
            <a:ext cx="2666880" cy="1511280"/>
            <a:chOff x="6477120" y="5013360"/>
            <a:chExt cx="2666880" cy="1511280"/>
          </a:xfrm>
        </p:grpSpPr>
        <p:grpSp>
          <p:nvGrpSpPr>
            <p:cNvPr id="357" name=""/>
            <p:cNvGrpSpPr/>
            <p:nvPr/>
          </p:nvGrpSpPr>
          <p:grpSpPr>
            <a:xfrm>
              <a:off x="6477120" y="5013360"/>
              <a:ext cx="2666880" cy="1511280"/>
              <a:chOff x="6477120" y="5013360"/>
              <a:chExt cx="2666880" cy="1511280"/>
            </a:xfrm>
          </p:grpSpPr>
          <p:sp>
            <p:nvSpPr>
              <p:cNvPr id="358" name=""/>
              <p:cNvSpPr/>
              <p:nvPr/>
            </p:nvSpPr>
            <p:spPr>
              <a:xfrm>
                <a:off x="6782040" y="6156360"/>
                <a:ext cx="1752480" cy="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6782040" y="5241960"/>
                <a:ext cx="0" cy="91440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82040" y="5241960"/>
                <a:ext cx="990360" cy="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72400" y="5241960"/>
                <a:ext cx="762120" cy="91440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96440" y="501336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G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477120" y="501336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H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480520" y="6080040"/>
                <a:ext cx="66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F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9400" y="615636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E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82040" y="5927760"/>
                <a:ext cx="30456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086600" y="5927760"/>
                <a:ext cx="0" cy="22860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7740720" y="5229360"/>
              <a:ext cx="0" cy="93636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ransition spd="slow" advTm="0">
    <p:wheel spokes="1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9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900"/>
                            </p:stCondLst>
                            <p:childTnLst>
                              <p:par>
                                <p:cTn id="2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39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79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9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9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3900"/>
                            </p:stCondLst>
                            <p:childTnLst>
                              <p:par>
                                <p:cTn id="2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052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8f8f8"/>
                </a:solidFill>
                <a:latin typeface="Times New Roman"/>
              </a:rPr>
              <a:t>TRIUNGHIU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2492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8f8f8"/>
                </a:solidFill>
                <a:latin typeface="Times New Roman"/>
              </a:rPr>
              <a:t>Dreptunghi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780000" y="3645000"/>
            <a:ext cx="1655640" cy="2160360"/>
            <a:chOff x="3780000" y="3645000"/>
            <a:chExt cx="1655640" cy="2160360"/>
          </a:xfrm>
        </p:grpSpPr>
        <p:sp>
          <p:nvSpPr>
            <p:cNvPr id="114" name=""/>
            <p:cNvSpPr/>
            <p:nvPr/>
          </p:nvSpPr>
          <p:spPr>
            <a:xfrm>
              <a:off x="3780000" y="3645000"/>
              <a:ext cx="1655640" cy="2160360"/>
            </a:xfrm>
            <a:prstGeom prst="rtTriangle">
              <a:avLst/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780000" y="5013360"/>
              <a:ext cx="1079280" cy="79200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0920" y="242100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8f8f8"/>
                </a:solidFill>
                <a:latin typeface="Times New Roman"/>
              </a:rPr>
              <a:t>Ascutitunghi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6360" y="24922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8f8f8"/>
                </a:solidFill>
                <a:latin typeface="Times New Roman"/>
              </a:rPr>
              <a:t>Obtuzunghi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4360" y="3789360"/>
            <a:ext cx="1871640" cy="2088720"/>
            <a:chOff x="684360" y="3789360"/>
            <a:chExt cx="1871640" cy="2088720"/>
          </a:xfrm>
        </p:grpSpPr>
        <p:sp>
          <p:nvSpPr>
            <p:cNvPr id="119" name=""/>
            <p:cNvSpPr/>
            <p:nvPr/>
          </p:nvSpPr>
          <p:spPr>
            <a:xfrm>
              <a:off x="684360" y="3789360"/>
              <a:ext cx="1871640" cy="2087280"/>
            </a:xfrm>
            <a:prstGeom prst="triangle">
              <a:avLst>
                <a:gd name="adj" fmla="val 33588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2000" y="3862080"/>
              <a:ext cx="0" cy="201600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84360" y="4941360"/>
              <a:ext cx="1295280" cy="93636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900000" y="5228640"/>
              <a:ext cx="1655640" cy="64908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27640" y="4149720"/>
            <a:ext cx="2376360" cy="1942920"/>
            <a:chOff x="6227640" y="4149720"/>
            <a:chExt cx="2376360" cy="1942920"/>
          </a:xfrm>
        </p:grpSpPr>
        <p:grpSp>
          <p:nvGrpSpPr>
            <p:cNvPr id="124" name=""/>
            <p:cNvGrpSpPr/>
            <p:nvPr/>
          </p:nvGrpSpPr>
          <p:grpSpPr>
            <a:xfrm>
              <a:off x="6227640" y="4149720"/>
              <a:ext cx="2305080" cy="1224000"/>
              <a:chOff x="6227640" y="4149720"/>
              <a:chExt cx="2305080" cy="1224000"/>
            </a:xfrm>
          </p:grpSpPr>
          <p:sp>
            <p:nvSpPr>
              <p:cNvPr id="125" name=""/>
              <p:cNvSpPr/>
              <p:nvPr/>
            </p:nvSpPr>
            <p:spPr>
              <a:xfrm>
                <a:off x="6227640" y="5373720"/>
                <a:ext cx="1224000" cy="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7451640" y="4149720"/>
                <a:ext cx="1081080" cy="122400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6227640" y="4221000"/>
                <a:ext cx="2232000" cy="115236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 flipV="1">
              <a:off x="7163640" y="4868280"/>
              <a:ext cx="287640" cy="50508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30920" y="4149720"/>
              <a:ext cx="0" cy="129528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22920" y="5373720"/>
              <a:ext cx="1081080" cy="0"/>
            </a:xfrm>
            <a:prstGeom prst="line">
              <a:avLst/>
            </a:prstGeom>
            <a:ln w="57240">
              <a:solidFill>
                <a:srgbClr val="f8f8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514920" y="5300640"/>
              <a:ext cx="1008000" cy="792000"/>
            </a:xfrm>
            <a:prstGeom prst="line">
              <a:avLst/>
            </a:prstGeom>
            <a:ln w="57240">
              <a:solidFill>
                <a:srgbClr val="f8f8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27640" y="5373720"/>
              <a:ext cx="576000" cy="50328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2492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8f8f8"/>
                </a:solidFill>
                <a:latin typeface="Times New Roman"/>
              </a:rPr>
              <a:t>Scale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2565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8f8f8"/>
                </a:solidFill>
                <a:latin typeface="Times New Roman"/>
              </a:rPr>
              <a:t>Echilatera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539640" y="602136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3837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  <a:path fill="darken" w="34673" h="21600">
                <a:moveTo>
                  <a:pt x="10330" y="3794"/>
                </a:moveTo>
                <a:lnTo>
                  <a:pt x="11992" y="3794"/>
                </a:lnTo>
                <a:lnTo>
                  <a:pt x="11992" y="17806"/>
                </a:lnTo>
                <a:lnTo>
                  <a:pt x="10330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692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8f8f8"/>
                </a:solidFill>
                <a:latin typeface="Times New Roman"/>
              </a:rPr>
              <a:t>TRIUNGHIU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56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8f8f8"/>
                </a:solidFill>
                <a:latin typeface="Times New Roman"/>
              </a:rPr>
              <a:t>Isosce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1280" y="3573360"/>
            <a:ext cx="2232000" cy="2089080"/>
            <a:chOff x="611280" y="3573360"/>
            <a:chExt cx="2232000" cy="2089080"/>
          </a:xfrm>
        </p:grpSpPr>
        <p:sp>
          <p:nvSpPr>
            <p:cNvPr id="139" name=""/>
            <p:cNvSpPr/>
            <p:nvPr/>
          </p:nvSpPr>
          <p:spPr>
            <a:xfrm>
              <a:off x="611280" y="3573360"/>
              <a:ext cx="2232000" cy="2089080"/>
            </a:xfrm>
            <a:prstGeom prst="triangle">
              <a:avLst>
                <a:gd name="adj" fmla="val 71764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5640" y="3573360"/>
              <a:ext cx="0" cy="208764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11280" y="4869000"/>
              <a:ext cx="2016000" cy="79200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47280" y="4508280"/>
              <a:ext cx="1295640" cy="115236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08360" y="3933720"/>
            <a:ext cx="1440000" cy="1871640"/>
            <a:chOff x="3708360" y="3933720"/>
            <a:chExt cx="1440000" cy="1871640"/>
          </a:xfrm>
        </p:grpSpPr>
        <p:sp>
          <p:nvSpPr>
            <p:cNvPr id="144" name=""/>
            <p:cNvSpPr/>
            <p:nvPr/>
          </p:nvSpPr>
          <p:spPr>
            <a:xfrm>
              <a:off x="3708360" y="3933720"/>
              <a:ext cx="1440000" cy="187164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27640" y="3933720"/>
              <a:ext cx="0" cy="187164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708360" y="5300640"/>
              <a:ext cx="1224000" cy="50472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3924360" y="5300640"/>
              <a:ext cx="1224000" cy="50472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00720" y="4005360"/>
            <a:ext cx="2303640" cy="1728720"/>
            <a:chOff x="6300720" y="4005360"/>
            <a:chExt cx="2303640" cy="1728720"/>
          </a:xfrm>
        </p:grpSpPr>
        <p:sp>
          <p:nvSpPr>
            <p:cNvPr id="149" name=""/>
            <p:cNvSpPr/>
            <p:nvPr/>
          </p:nvSpPr>
          <p:spPr>
            <a:xfrm>
              <a:off x="6300720" y="4005360"/>
              <a:ext cx="2303640" cy="172728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51640" y="4005360"/>
              <a:ext cx="0" cy="172872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6877080" y="4868640"/>
              <a:ext cx="1727280" cy="86508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00720" y="4868640"/>
              <a:ext cx="1727280" cy="86508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 flipH="1">
            <a:off x="3708360" y="765000"/>
            <a:ext cx="1440000" cy="23036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3048120"/>
            <a:ext cx="2057400" cy="106668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787640" y="765000"/>
            <a:ext cx="360360" cy="201636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781360"/>
            <a:ext cx="863640" cy="129528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356000" y="4581360"/>
            <a:ext cx="2952720" cy="1429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4724280"/>
            <a:ext cx="1309680" cy="130176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08720" y="4581360"/>
            <a:ext cx="73080" cy="8636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651640" y="5445000"/>
            <a:ext cx="1728720" cy="622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17002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362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19162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66680" y="3789360"/>
            <a:ext cx="2784600" cy="2087640"/>
            <a:chOff x="1066680" y="3789360"/>
            <a:chExt cx="2784600" cy="2087640"/>
          </a:xfrm>
        </p:grpSpPr>
        <p:sp>
          <p:nvSpPr>
            <p:cNvPr id="165" name=""/>
            <p:cNvSpPr/>
            <p:nvPr/>
          </p:nvSpPr>
          <p:spPr>
            <a:xfrm flipH="1">
              <a:off x="1115640" y="3789360"/>
              <a:ext cx="1584360" cy="136836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00360" y="3789360"/>
              <a:ext cx="1150920" cy="208764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066680" y="4724280"/>
              <a:ext cx="1447920" cy="45720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84360" y="4724280"/>
              <a:ext cx="1366920" cy="115272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8280" y="41148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715000" y="48769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333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Care patrulatere sunt convexe </a:t>
            </a:r>
            <a:r>
              <a:rPr b="0" lang="ro-RO" sz="2800" spc="-1" strike="noStrike">
                <a:solidFill>
                  <a:srgbClr val="f8f8f8"/>
                </a:solidFill>
                <a:latin typeface="Verdana"/>
              </a:rPr>
              <a:t>ş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i care concave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1484280"/>
            <a:ext cx="2016360" cy="158292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348120 h 1582920"/>
              <a:gd name="textAreaBottom" fmla="*/ 123480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907920"/>
            <a:ext cx="1873440" cy="2592360"/>
          </a:xfrm>
          <a:prstGeom prst="parallelogram">
            <a:avLst>
              <a:gd name="adj" fmla="val 25000"/>
            </a:avLst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826920" y="981000"/>
            <a:ext cx="3470400" cy="2394000"/>
            <a:chOff x="826920" y="981000"/>
            <a:chExt cx="3470400" cy="2394000"/>
          </a:xfrm>
        </p:grpSpPr>
        <p:grpSp>
          <p:nvGrpSpPr>
            <p:cNvPr id="175" name=""/>
            <p:cNvGrpSpPr/>
            <p:nvPr/>
          </p:nvGrpSpPr>
          <p:grpSpPr>
            <a:xfrm>
              <a:off x="826920" y="981000"/>
              <a:ext cx="3470400" cy="2394000"/>
              <a:chOff x="826920" y="981000"/>
              <a:chExt cx="3470400" cy="2394000"/>
            </a:xfrm>
          </p:grpSpPr>
          <p:sp>
            <p:nvSpPr>
              <p:cNvPr id="176" name=""/>
              <p:cNvSpPr/>
              <p:nvPr/>
            </p:nvSpPr>
            <p:spPr>
              <a:xfrm>
                <a:off x="996840" y="1635120"/>
                <a:ext cx="2895840" cy="1371600"/>
              </a:xfrm>
              <a:prstGeom prst="parallelogram">
                <a:avLst>
                  <a:gd name="adj" fmla="val 52782"/>
                </a:avLst>
              </a:prstGeom>
              <a:solidFill>
                <a:srgbClr val="6699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6920" y="285444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8f8f8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65560" y="28544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40120" y="1341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30280" y="981000"/>
                <a:ext cx="49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06400" y="1635120"/>
                <a:ext cx="144792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flipV="1">
              <a:off x="971640" y="1628640"/>
              <a:ext cx="28954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16360" y="1125360"/>
            <a:ext cx="4142880" cy="2212200"/>
            <a:chOff x="4716360" y="1125360"/>
            <a:chExt cx="4142880" cy="2212200"/>
          </a:xfrm>
        </p:grpSpPr>
        <p:grpSp>
          <p:nvGrpSpPr>
            <p:cNvPr id="184" name=""/>
            <p:cNvGrpSpPr/>
            <p:nvPr/>
          </p:nvGrpSpPr>
          <p:grpSpPr>
            <a:xfrm>
              <a:off x="4716360" y="1125360"/>
              <a:ext cx="4142880" cy="2212200"/>
              <a:chOff x="4716360" y="1125360"/>
              <a:chExt cx="4142880" cy="2212200"/>
            </a:xfrm>
          </p:grpSpPr>
          <p:sp>
            <p:nvSpPr>
              <p:cNvPr id="185" name=""/>
              <p:cNvSpPr/>
              <p:nvPr/>
            </p:nvSpPr>
            <p:spPr>
              <a:xfrm>
                <a:off x="5049360" y="1506240"/>
                <a:ext cx="2742840" cy="13716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73400" y="2801880"/>
                <a:ext cx="129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563960" y="28778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640280" y="1125360"/>
                <a:ext cx="121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8f8f8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16360" y="12888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049360" y="1506240"/>
                <a:ext cx="274284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5008320" y="1538280"/>
              <a:ext cx="2819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76520" y="3276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733920"/>
            <a:ext cx="15238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84360" y="3284640"/>
            <a:ext cx="1811160" cy="3174120"/>
            <a:chOff x="684360" y="3284640"/>
            <a:chExt cx="1811160" cy="3174120"/>
          </a:xfrm>
        </p:grpSpPr>
        <p:sp>
          <p:nvSpPr>
            <p:cNvPr id="196" name=""/>
            <p:cNvSpPr/>
            <p:nvPr/>
          </p:nvSpPr>
          <p:spPr>
            <a:xfrm>
              <a:off x="1065240" y="3560760"/>
              <a:ext cx="1066680" cy="2590920"/>
            </a:xfrm>
            <a:prstGeom prst="diamond">
              <a:avLst/>
            </a:prstGeom>
            <a:solidFill>
              <a:srgbClr val="6699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59990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90600" y="45813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69880" y="3284640"/>
              <a:ext cx="8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4360" y="478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39640" y="62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Patrulaterele particulare care au fost studiate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43280" y="3716280"/>
            <a:ext cx="2539440" cy="2332800"/>
            <a:chOff x="2843280" y="3716280"/>
            <a:chExt cx="2539440" cy="2332800"/>
          </a:xfrm>
        </p:grpSpPr>
        <p:sp>
          <p:nvSpPr>
            <p:cNvPr id="203" name=""/>
            <p:cNvSpPr/>
            <p:nvPr/>
          </p:nvSpPr>
          <p:spPr>
            <a:xfrm>
              <a:off x="3224160" y="4147920"/>
              <a:ext cx="1523520" cy="14479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43280" y="553716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19440" y="558936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48040" y="3789360"/>
              <a:ext cx="63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06720" y="3716280"/>
              <a:ext cx="4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224160" y="4147920"/>
              <a:ext cx="151092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372360" y="3500280"/>
            <a:ext cx="2232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96000" y="3499920"/>
            <a:ext cx="216072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4267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4292640"/>
            <a:ext cx="1440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18080" y="3645000"/>
            <a:ext cx="3625920" cy="2499480"/>
            <a:chOff x="5518080" y="3645000"/>
            <a:chExt cx="3625920" cy="2499480"/>
          </a:xfrm>
        </p:grpSpPr>
        <p:sp>
          <p:nvSpPr>
            <p:cNvPr id="214" name=""/>
            <p:cNvSpPr/>
            <p:nvPr/>
          </p:nvSpPr>
          <p:spPr>
            <a:xfrm>
              <a:off x="8381880" y="5684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29600" y="45417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0800000">
              <a:off x="5823000" y="4008600"/>
              <a:ext cx="2743200" cy="1752480"/>
            </a:xfrm>
            <a:prstGeom prst="flowChartManualOperation">
              <a:avLst/>
            </a:prstGeom>
            <a:solidFill>
              <a:srgbClr val="6699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18080" y="5684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6720" y="378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51600" y="364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8332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04040" y="4003560"/>
              <a:ext cx="223200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827680" y="4003200"/>
              <a:ext cx="216072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27920" y="477036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900000" y="3212640"/>
            <a:ext cx="1368360" cy="1325880"/>
            <a:chOff x="900000" y="3212640"/>
            <a:chExt cx="1368360" cy="1325880"/>
          </a:xfrm>
        </p:grpSpPr>
        <p:sp>
          <p:nvSpPr>
            <p:cNvPr id="225" name=""/>
            <p:cNvSpPr/>
            <p:nvPr/>
          </p:nvSpPr>
          <p:spPr>
            <a:xfrm flipV="1">
              <a:off x="900000" y="3212640"/>
              <a:ext cx="0" cy="79236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0000" y="4005360"/>
              <a:ext cx="685800" cy="53316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000" y="3213000"/>
              <a:ext cx="1368360" cy="7164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618920" y="3284640"/>
              <a:ext cx="649080" cy="12286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V="1">
            <a:off x="1403280" y="2565000"/>
            <a:ext cx="955800" cy="6476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1773360"/>
            <a:ext cx="2146320" cy="1350720"/>
          </a:xfrm>
          <a:prstGeom prst="parallelogram">
            <a:avLst>
              <a:gd name="adj" fmla="val 39725"/>
            </a:avLst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67280" y="2420640"/>
            <a:ext cx="657000" cy="3776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2852640"/>
            <a:ext cx="1152720" cy="10080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88000" y="1484280"/>
            <a:ext cx="1904760" cy="114300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76720" y="2924280"/>
            <a:ext cx="1371600" cy="2590560"/>
          </a:xfrm>
          <a:prstGeom prst="diamond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2133720"/>
            <a:ext cx="934920" cy="790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443640" y="3715920"/>
            <a:ext cx="606600" cy="2890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93080" y="2924280"/>
            <a:ext cx="1441440" cy="14954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8000" y="4647960"/>
            <a:ext cx="1292400" cy="10126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221000"/>
            <a:ext cx="71640" cy="10796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0753800">
            <a:off x="3045960" y="4038120"/>
            <a:ext cx="2057400" cy="106704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36600" y="3649680"/>
            <a:ext cx="3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2060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 rot="10800000">
            <a:off x="5579640" y="3573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35280" y="4292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4720" y="3284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558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6858000"/>
            <a:ext cx="198108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276720" y="5373720"/>
            <a:ext cx="2361960" cy="838080"/>
            <a:chOff x="3276720" y="5373720"/>
            <a:chExt cx="2361960" cy="838080"/>
          </a:xfrm>
        </p:grpSpPr>
        <p:sp>
          <p:nvSpPr>
            <p:cNvPr id="249" name=""/>
            <p:cNvSpPr/>
            <p:nvPr/>
          </p:nvSpPr>
          <p:spPr>
            <a:xfrm>
              <a:off x="3276720" y="5373720"/>
              <a:ext cx="167616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6720" y="5373720"/>
              <a:ext cx="0" cy="8380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73400" y="5408280"/>
              <a:ext cx="647280" cy="79200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6720" y="6211800"/>
              <a:ext cx="236196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8360" y="404640"/>
            <a:ext cx="7488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Verdana"/>
              </a:rPr>
              <a:t>legenda:                A=trapez isoscel   B=trapez dreptunghic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Verdana"/>
              </a:rPr>
              <a:t>C=patr.oarecare     D=dreptunghi      P=patr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Verdana"/>
              </a:rPr>
              <a:t>P=paralelogram      R=romb              T=trapez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19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8360" y="5373720"/>
            <a:ext cx="2158920" cy="792000"/>
            <a:chOff x="468360" y="5373720"/>
            <a:chExt cx="2158920" cy="792000"/>
          </a:xfrm>
        </p:grpSpPr>
        <p:sp>
          <p:nvSpPr>
            <p:cNvPr id="256" name=""/>
            <p:cNvSpPr/>
            <p:nvPr/>
          </p:nvSpPr>
          <p:spPr>
            <a:xfrm>
              <a:off x="826920" y="5373720"/>
              <a:ext cx="72072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68360" y="5373720"/>
              <a:ext cx="358560" cy="79200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8360" y="6165720"/>
              <a:ext cx="215892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47640" y="5373720"/>
              <a:ext cx="1079640" cy="79200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979640" y="5661000"/>
            <a:ext cx="1224000" cy="1443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558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bfe9"/>
                </a:solidFill>
                <a:latin typeface="Tahoma"/>
              </a:rPr>
              <a:t>Paralelogramu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125360"/>
            <a:ext cx="8142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Def. Este patrulaterul cu laturile opuse paralele doua cate doua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Proprietati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Un patrulater este paralelogram dac</a:t>
            </a:r>
            <a:r>
              <a:rPr b="0" lang="ro-RO" sz="2800" spc="-1" strike="noStrike">
                <a:solidFill>
                  <a:srgbClr val="f8f8f8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8f8f8"/>
                </a:solidFill>
                <a:latin typeface="Tahoma"/>
              </a:rPr>
              <a:t>ş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 numai dac</a:t>
            </a:r>
            <a:r>
              <a:rPr b="0" lang="ro-RO" sz="2800" spc="-1" strike="noStrike">
                <a:solidFill>
                  <a:srgbClr val="f8f8f8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Are laturile opuse congruent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Are doua laturi opuse paralele </a:t>
            </a:r>
            <a:r>
              <a:rPr b="0" lang="ro-RO" sz="2800" spc="-1" strike="noStrike">
                <a:solidFill>
                  <a:srgbClr val="ffff66"/>
                </a:solidFill>
                <a:latin typeface="Tahoma"/>
              </a:rPr>
              <a:t>ş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i congruent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Are unghiurile opuse congruente 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Diagonalele se taie </a:t>
            </a:r>
            <a:r>
              <a:rPr b="0" lang="ro-RO" sz="2800" spc="-1" strike="noStrike">
                <a:solidFill>
                  <a:srgbClr val="ffff66"/>
                </a:solidFill>
                <a:latin typeface="Tahoma"/>
              </a:rPr>
              <a:t>î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n par</a:t>
            </a:r>
            <a:r>
              <a:rPr b="0" lang="ro-RO" sz="2800" spc="-1" strike="noStrike">
                <a:solidFill>
                  <a:srgbClr val="ffff66"/>
                </a:solidFill>
                <a:latin typeface="Tahoma"/>
              </a:rPr>
              <a:t>ţ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i congruente:</a:t>
            </a: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                                              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                                                 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428280" y="59436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544500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ABCD paralelogram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  AB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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CD si AD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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BC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48006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85640" y="4869000"/>
            <a:ext cx="3611520" cy="1747800"/>
            <a:chOff x="485640" y="4869000"/>
            <a:chExt cx="3611520" cy="1747800"/>
          </a:xfrm>
        </p:grpSpPr>
        <p:grpSp>
          <p:nvGrpSpPr>
            <p:cNvPr id="268" name=""/>
            <p:cNvGrpSpPr/>
            <p:nvPr/>
          </p:nvGrpSpPr>
          <p:grpSpPr>
            <a:xfrm>
              <a:off x="485640" y="4869000"/>
              <a:ext cx="3611520" cy="1747800"/>
              <a:chOff x="485640" y="4869000"/>
              <a:chExt cx="3611520" cy="1747800"/>
            </a:xfrm>
          </p:grpSpPr>
          <p:sp>
            <p:nvSpPr>
              <p:cNvPr id="269" name=""/>
              <p:cNvSpPr/>
              <p:nvPr/>
            </p:nvSpPr>
            <p:spPr>
              <a:xfrm>
                <a:off x="788760" y="5181480"/>
                <a:ext cx="2895840" cy="1219320"/>
              </a:xfrm>
              <a:prstGeom prst="parallelogram">
                <a:avLst>
                  <a:gd name="adj" fmla="val 59374"/>
                </a:avLst>
              </a:prstGeom>
              <a:solidFill>
                <a:srgbClr val="6699ff"/>
              </a:solidFill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640" y="61405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A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22480" y="624852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B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608280" y="4876920"/>
                <a:ext cx="4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C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322280" y="486900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D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50880" y="5181480"/>
                <a:ext cx="1447920" cy="1219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88760" y="5181120"/>
                <a:ext cx="2895840" cy="1219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27200" y="5410080"/>
                <a:ext cx="1447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2124000" y="54450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Arial Black"/>
                </a:rPr>
                <a:t>O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337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e9bfe9"/>
                </a:solidFill>
                <a:latin typeface="Tahoma"/>
              </a:rPr>
              <a:t>Paralelograme particula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35472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8f8f8"/>
                </a:solidFill>
                <a:latin typeface="Tahoma"/>
              </a:rPr>
              <a:t>Def.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Dreptunghiu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este </a:t>
            </a:r>
            <a:r>
              <a:rPr b="0" lang="ro-RO" sz="24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ralelogramul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cu un unghi drept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ffff"/>
                </a:solidFill>
                <a:latin typeface="Tahoma"/>
              </a:rPr>
              <a:t>P1.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Are diagonalele congruente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8f8f8"/>
                </a:solidFill>
                <a:latin typeface="Tahoma"/>
              </a:rPr>
              <a:t>Def.</a:t>
            </a:r>
            <a:r>
              <a:rPr b="0" lang="ro-RO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Rombul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este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alelogramul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cu doua laturi consecutive congruente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ffff"/>
                </a:solidFill>
                <a:latin typeface="Tahoma"/>
              </a:rPr>
              <a:t>P1.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Are diagonalele perpendiculare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99cc"/>
                </a:solidFill>
                <a:latin typeface="Tahoma"/>
              </a:rPr>
              <a:t>P2. Diagonalele sunt bisectoare ale unghiuril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8f8f8"/>
                </a:solidFill>
                <a:latin typeface="Tahoma"/>
              </a:rPr>
              <a:t>Def.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Patratul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e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romb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 cu un unghi drept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u este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reptunghiu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u doua laturi consecutive congruente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ffff"/>
                </a:solidFill>
                <a:latin typeface="Tahoma"/>
              </a:rPr>
              <a:t>P1.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Are diagonalele congruente</a:t>
            </a:r>
            <a:r>
              <a:rPr b="0" lang="ro-RO" sz="2400" spc="-1" strike="noStrike">
                <a:solidFill>
                  <a:srgbClr val="00ffff"/>
                </a:solidFill>
                <a:latin typeface="Tahoma"/>
              </a:rPr>
              <a:t>, perpendiculare şi sunt bisectoare ale unghiurilo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289548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54864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28195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23623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62720" y="23623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516720" y="1052640"/>
            <a:ext cx="2209680" cy="926640"/>
            <a:chOff x="6516720" y="1052640"/>
            <a:chExt cx="2209680" cy="926640"/>
          </a:xfrm>
        </p:grpSpPr>
        <p:sp>
          <p:nvSpPr>
            <p:cNvPr id="286" name=""/>
            <p:cNvSpPr/>
            <p:nvPr/>
          </p:nvSpPr>
          <p:spPr>
            <a:xfrm>
              <a:off x="6516720" y="1052640"/>
              <a:ext cx="2209680" cy="9140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16720" y="1065240"/>
              <a:ext cx="2209680" cy="91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16720" y="1065240"/>
              <a:ext cx="2160360" cy="84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165440" y="1525680"/>
              <a:ext cx="75960" cy="22824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8100360" y="1065240"/>
              <a:ext cx="152280" cy="30420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165800" y="1144440"/>
              <a:ext cx="151920" cy="22824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070480" y="1484280"/>
              <a:ext cx="152280" cy="30456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7620120" y="36576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0120" y="36576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0120" y="35053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164360" y="2133720"/>
            <a:ext cx="1600200" cy="2633400"/>
            <a:chOff x="7164360" y="2133720"/>
            <a:chExt cx="1600200" cy="2633400"/>
          </a:xfrm>
        </p:grpSpPr>
        <p:sp>
          <p:nvSpPr>
            <p:cNvPr id="297" name=""/>
            <p:cNvSpPr/>
            <p:nvPr/>
          </p:nvSpPr>
          <p:spPr>
            <a:xfrm>
              <a:off x="7164360" y="2176560"/>
              <a:ext cx="1600200" cy="2590560"/>
            </a:xfrm>
            <a:prstGeom prst="diamond">
              <a:avLst/>
            </a:prstGeom>
            <a:solidFill>
              <a:srgbClr val="6699ff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64360" y="3471840"/>
              <a:ext cx="1600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74000" y="3352680"/>
              <a:ext cx="22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02600" y="3352680"/>
              <a:ext cx="0" cy="15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7971120" y="2133720"/>
              <a:ext cx="0" cy="2590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21720" y="4038480"/>
              <a:ext cx="304920" cy="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21720" y="4114800"/>
              <a:ext cx="304920" cy="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4280" y="2781360"/>
              <a:ext cx="228600" cy="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50160" y="2854440"/>
              <a:ext cx="228600" cy="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86640" y="3319560"/>
              <a:ext cx="0" cy="30456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83680" y="3319560"/>
              <a:ext cx="0" cy="22860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020000" y="4869000"/>
            <a:ext cx="1600200" cy="1371600"/>
            <a:chOff x="7020000" y="4869000"/>
            <a:chExt cx="1600200" cy="1371600"/>
          </a:xfrm>
        </p:grpSpPr>
        <p:sp>
          <p:nvSpPr>
            <p:cNvPr id="309" name=""/>
            <p:cNvSpPr/>
            <p:nvPr/>
          </p:nvSpPr>
          <p:spPr>
            <a:xfrm>
              <a:off x="7020000" y="4869000"/>
              <a:ext cx="1600200" cy="13716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20000" y="4869000"/>
              <a:ext cx="160020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020000" y="4869000"/>
              <a:ext cx="160020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05800" y="5631120"/>
              <a:ext cx="15228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858080" y="5630760"/>
              <a:ext cx="15228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400520" y="5173920"/>
              <a:ext cx="152280" cy="15228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86680" y="5173920"/>
              <a:ext cx="152280" cy="15228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00880" y="5707440"/>
              <a:ext cx="152280" cy="22860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010360" y="5707080"/>
              <a:ext cx="228600" cy="22860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ransition spd="slow"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4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4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4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-9147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143000"/>
            <a:ext cx="7086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6699ff"/>
                  </a:solidFill>
                  <a:miter/>
                </a:ln>
                <a:solidFill>
                  <a:srgbClr val="6699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APEZUL</a:t>
            </a:r>
            <a:endParaRPr b="0" lang="en-US" sz="2400" spc="1" strike="noStrike">
              <a:ln w="12600">
                <a:solidFill>
                  <a:srgbClr val="6699ff"/>
                </a:solidFill>
                <a:miter/>
              </a:ln>
              <a:solidFill>
                <a:srgbClr val="6699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0" name=""/>
          <p:cNvSpPr/>
          <p:nvPr/>
        </p:nvSpPr>
        <p:spPr>
          <a:xfrm rot="10800000">
            <a:off x="2286000" y="3885840"/>
            <a:ext cx="3276720" cy="1143000"/>
          </a:xfrm>
          <a:custGeom>
            <a:avLst/>
            <a:gdLst>
              <a:gd name="textAreaLeft" fmla="*/ 720360 w 3276720"/>
              <a:gd name="textAreaRight" fmla="*/ 2556360 w 327672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 advTm="0">
    <p:checke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1:51:08Z</dcterms:created>
  <dc:creator>CATA</dc:creator>
  <dc:description/>
  <dc:language>en-US</dc:language>
  <cp:lastModifiedBy>maria</cp:lastModifiedBy>
  <dcterms:modified xsi:type="dcterms:W3CDTF">2011-01-04T14:25:45Z</dcterms:modified>
  <cp:revision>98</cp:revision>
  <dc:subject/>
  <dc:title>No Slide Title</dc:title>
</cp:coreProperties>
</file>